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768DE-88A4-4BDD-9501-C037D7637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EEFBB-B2AB-466F-A913-D794CE03E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D6659-88E8-40FC-A9C8-3CC270099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C3295-F3BC-413C-881A-271FBDC8E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3A3E2-8FBB-40B4-B483-37C50E0F6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01E02-3BCF-44C7-A726-F31FB3AE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11888-9882-4A9D-A3FF-1E427D3EF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3BAE3-4C4E-4930-AAF1-620D5990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49951-AA0B-4A4C-8EA2-89B7BED9C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60981-8F50-4F4A-98D4-A8A2CE96B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0B1D3-C27C-41C9-9919-58F36233E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0427-EE08-4B10-84DF-03D63759A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2C54-9E63-4CA7-A116-8927F0F77DF0}"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328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465300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234936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643280" y="0"/>
            <a:ext cx="4500720" cy="2205000"/>
          </a:xfrm>
          <a:prstGeom prst="rect">
            <a:avLst/>
          </a:prstGeom>
          <a:noFill/>
          <a:ln cap="rnd" w="324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4608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48" name=""/>
          <p:cNvSpPr/>
          <p:nvPr/>
        </p:nvSpPr>
        <p:spPr>
          <a:xfrm>
            <a:off x="4643280" y="463248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49" name=""/>
          <p:cNvSpPr/>
          <p:nvPr/>
        </p:nvSpPr>
        <p:spPr>
          <a:xfrm>
            <a:off x="0" y="463248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50" name=""/>
          <p:cNvSpPr/>
          <p:nvPr/>
        </p:nvSpPr>
        <p:spPr>
          <a:xfrm>
            <a:off x="0" y="234936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51" name=""/>
          <p:cNvSpPr/>
          <p:nvPr/>
        </p:nvSpPr>
        <p:spPr>
          <a:xfrm>
            <a:off x="4643280" y="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
        <p:nvSpPr>
          <p:cNvPr id="52" name=""/>
          <p:cNvSpPr/>
          <p:nvPr/>
        </p:nvSpPr>
        <p:spPr>
          <a:xfrm>
            <a:off x="4643280" y="2349360"/>
            <a:ext cx="4500720" cy="222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mobile phones with SIM cards bought after the 1.11.2002 have to be registered until end of October, otherwise they’ll be switched off. The federal council Leuenberger wanted to prevent drug traffic and terrorism by registration duty. There’s just one problem in the law he signed: Only people with a travel document valid to cross the border have the right to register themselves up. </a:t>
            </a:r>
            <a:r>
              <a:rPr b="1" lang="en-GB" sz="1000" spc="-1" strike="noStrike">
                <a:solidFill>
                  <a:srgbClr val="000000"/>
                </a:solidFill>
                <a:latin typeface="Arial"/>
              </a:rPr>
              <a:t>This means that refugees with N, F and S permit don’t have the right to buy a SIM card or a new mobile phone. </a:t>
            </a:r>
            <a:r>
              <a:rPr b="0" lang="en-GB" sz="1000" spc="-1" strike="noStrike">
                <a:solidFill>
                  <a:srgbClr val="000000"/>
                </a:solidFill>
                <a:latin typeface="Arial"/>
              </a:rPr>
              <a:t>This practice is not only discriminating but also absurd: Since the aim was to assign every number to a person it’s clueless now, because the phones of refugees have to be registered by persons having the demanded travel document.  This law on registration doesn’t even serve the state’s security.</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Second registration action:</a:t>
            </a:r>
            <a:r>
              <a:rPr b="0" lang="en-GB" sz="1000" spc="-1" strike="noStrike">
                <a:solidFill>
                  <a:srgbClr val="000000"/>
                </a:solidFill>
                <a:latin typeface="Arial"/>
              </a:rPr>
              <a:t> (Please bring your mobil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n: Friday, October 15, from 3 until 8 pm.</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here:</a:t>
            </a:r>
            <a:r>
              <a:rPr b="0" lang="en-GB" sz="1000" spc="-1" strike="noStrike">
                <a:solidFill>
                  <a:srgbClr val="000000"/>
                </a:solidFill>
                <a:latin typeface="Arial"/>
              </a:rPr>
              <a:t> Zurich, </a:t>
            </a:r>
            <a:r>
              <a:rPr b="1" lang="en-GB" sz="1000" spc="-1" strike="noStrike">
                <a:solidFill>
                  <a:srgbClr val="000000"/>
                </a:solidFill>
                <a:latin typeface="Arial"/>
              </a:rPr>
              <a:t>Helvetiaplatz</a:t>
            </a:r>
            <a:r>
              <a:rPr b="0" lang="en-GB" sz="1000" spc="-1" strike="noStrike">
                <a:solidFill>
                  <a:srgbClr val="000000"/>
                </a:solidFill>
                <a:latin typeface="Arial"/>
              </a:rPr>
              <a:t>, near the fountai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7:38:55Z</dcterms:created>
  <dc:creator> pc</dc:creator>
  <dc:description/>
  <dc:language>en-US</dc:language>
  <cp:lastModifiedBy> pc</cp:lastModifiedBy>
  <dcterms:modified xsi:type="dcterms:W3CDTF">2004-09-29T20:47:56Z</dcterms:modified>
  <cp:revision>8</cp:revision>
  <dc:subject/>
  <dc:title>Slide 1</dc:title>
</cp:coreProperties>
</file>